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9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44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sldImg"/>
          </p:nvPr>
        </p:nvSpPr>
        <p:spPr>
          <a:xfrm>
            <a:off x="2895120" y="525240"/>
            <a:ext cx="3506760" cy="26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39040" cy="3154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ftr" idx="45"/>
          </p:nvPr>
        </p:nvSpPr>
        <p:spPr>
          <a:xfrm>
            <a:off x="-360" y="665748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 type="sldNum" idx="46"/>
          </p:nvPr>
        </p:nvSpPr>
        <p:spPr>
          <a:xfrm>
            <a:off x="5267160" y="665748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424A0-AABC-4B14-BEA3-5138E61F9492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6760" cy="263052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39040" cy="3154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5267160" y="665784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F4B9B-B94A-415E-843E-58B836479808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5264280" y="6659640"/>
            <a:ext cx="4030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51F3C-862F-4584-81C9-6A0C237EABA9}" type="slidenum">
              <a:rPr b="0" lang="en-ZA" sz="14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2897280" y="527040"/>
            <a:ext cx="3502080" cy="262728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299880" y="3730320"/>
            <a:ext cx="8699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5264280" y="6659640"/>
            <a:ext cx="4030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DDD50E-0972-4605-86E1-E7327094805D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254-DFBB-446A-8769-8E818FCD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9C3-A2A3-4636-AEC1-6E42654D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EF02D-6E58-42CA-B153-061EF2D6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C104C-3BB3-4C18-8EF8-105B270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F1A50-9FB6-404E-BD14-07F8808B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096CEB-46DB-451E-87FB-A6D5495B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6AF6E-76A4-4D5D-8A23-6DAE7809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2C8CF-B694-414A-9D0B-6361F8E5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8B661-4048-460C-A42E-99EAE649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CCCC9-36FA-4A2D-80C9-B790472A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BAEA2-1044-4F23-B521-F395E053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E2647-C7B6-4AB0-A746-E1E59687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7B0-3833-4F9C-BB51-AA65363C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AC3AB6-6E18-475C-8AFE-69232850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8DBFB-7F5D-442D-B8D7-972FFBDC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49E247-587E-4741-83EA-15E30AAC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5A5E2F-76DD-4B86-BB96-BDA8995B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8A6B4-28AB-4426-8EE2-C03A3B8B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430D90-DFF8-49C6-855C-7B90BF85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2E1F8C-8986-4783-BC4D-5005DA36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C5DFA6-0B72-4545-A1F5-AA39EFB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DE075B-EB1B-45F9-AFF6-E9F3BE3F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7BFC55-4D6E-4FA8-9BCA-558054ED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1DB-A896-4502-8912-FABFF5A4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97DC1E-7883-4591-AB7D-0A5F594A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3042F4-1F6A-4284-ACFE-E503CE8C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175441-7D8B-4DAD-BB0F-A1A3DA37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4B6DB-9002-47D7-80FA-F4F8CB09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C47FEE-283E-4089-95B1-8A6506A2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6E8BA0-3E0A-40B6-9C0B-03A77D50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898149-EF29-49CB-8B55-769C0539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6A0D85-E087-48D7-858B-52634A99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FBBEDF-F359-4BCB-B8FA-8C38EB52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2AE073-3B13-4F44-BE20-581005B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3573C-576B-4AD4-B071-3882082DA8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396080-304B-44EA-A043-2A4C60E4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E2FD9E-6D06-41DB-AF11-DB396342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412139-0056-47A4-9763-C656559E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77AB89-FDDB-4E21-ADBE-CCE9404D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0D062A-D5FE-43A4-8D04-94FB4DD9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25540C-4CC9-4DF8-9EF3-59B50250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4E8FE5-3FAE-4999-8826-12FD0A8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C86EE7-5118-4E7A-A960-DE43BAB0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F3AADF-F989-461B-B615-A66D9820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09FF93-1B88-4381-9484-187E449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5D31B-C10E-4D1A-AE54-104D77FC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8F61C6-E5D8-4871-B03C-D5BFE9E4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887868-1FA3-4F59-8BE7-135CF606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45189E-DE47-42A7-AA9E-78345E31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6BBCC8-99C7-4D8F-B98D-F430F3E1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0A1A43-FBBA-4EA0-9217-9EE1FB30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F3D1BD-A537-41DD-A50B-B97BA571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3E1C68-D799-46D8-81D8-DC4D1787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196CFD-F16B-4472-AABA-B6B15E9F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569FC6-BF22-4242-B6B8-7400B090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F890F0-176F-431D-B5C1-5CBB64D3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124A0-1752-4D60-AE80-81A73C94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0F5960-172C-42D2-858C-3BBF4A7E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CD8232-5C1F-4F7C-B97F-15F2E3FB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FBF208-536C-4E15-B59F-3F2C0CBE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078298-493D-4142-97AF-6316473D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25A0A4-AFC2-430E-AB6A-113C2577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3AE113-1C0E-4CD8-8537-04643967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1FE657-06C7-4A0E-8831-C544EAF6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5033E8-2961-46F8-AC6F-86F6920F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40F7C5-64F9-48E2-BE8A-1E139494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06F822-9ED6-4920-A073-5987B7E9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C8320-72E0-487C-B3E4-39FC93F9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3E21FB-8A7C-4819-AF01-A8513BE0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C712A3-EBF0-402D-B2EA-88E10691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AA0EB3-D979-4EA7-9583-580ECF83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3B1585-9EFE-459D-9094-54C3900B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08488A-CD21-45B6-B101-0925555F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968472-402F-461D-9616-5C650BA2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D9791B-5F9E-4848-B3CB-844D2883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982B73-151F-4041-AE35-7CD8BBDB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66FD8C-389F-44BB-9FFE-7760D414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8D1DD9-28FA-49BE-842C-4B7677A9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8EA8E-5156-4C42-8E1D-E8EF5CB3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869330-AFEE-47AE-A9D2-0FF5DD05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12F6B4-1DCB-4F04-98DA-C41DF57A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B95048-22AA-490A-A7F2-5C5911B0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336274-CB0E-437E-9EF8-8B880215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2ACA41-1767-4B7E-A224-F326E36D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E362F7-A075-4A84-9FEE-0082D514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EBC7AE-4D3E-4046-BDA8-E86C120F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3FFBC0-BDE6-4704-AA76-BD7FCC33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0438CE-3789-4BAE-A2CA-BEF4E32D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522F34-3696-4A4F-B298-D1100732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CC68A-FE00-4500-B1C7-418D26DD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B98FC5-54DF-4E02-AFBF-B5B0628F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B04020-1D61-43A7-B5E3-5A51C929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68F91F-AA77-4695-8586-EECAB6E1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E0A8F0-CFC2-4659-A55D-B22C941C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A26D54-F7BB-467E-AD53-D69C3556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06DC8D-FAE1-4271-A881-64135076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88DBD1-2113-4C08-8E86-0EF82049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A0EBBB-9DC8-492E-A469-B1234B8E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0C27F2-CC9B-4C68-BCC6-2A8B7B7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AAA796-A4A5-4BDE-A7B2-CEBC38F0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F09C9-84A1-42E6-8BCD-435AAAFC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169CFF-90DE-4E9A-924A-66A38D71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55BF1D-E2DC-4BF4-BF65-1FF596E4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EB0959-CBF3-486A-86EE-E669C18D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289BFE-2DC6-4257-A482-D76AEEDCF3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1B8428-7A30-472B-87E5-96FDF87F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F38764-3583-45B2-A0EB-C17B406C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EFC68D-A543-421A-9916-E68F338C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B22A93-56F2-4C08-B774-6646ECF2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D1CE2A-5B53-48FD-A411-37C9B7B6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7474E2-53EA-44AB-818D-51E3E27C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346-5C40-410A-9FC3-2D2F4B58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4EDED-6D9C-4145-ADA0-252CFF38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D83CED-34AF-4242-9738-05E95B3F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83E281-DEA6-4A26-927C-FDA2904C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93E803-7322-476A-A100-8626569D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833249-B8CC-4ECB-84F1-9350EF61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607CFD-F079-4144-9BA3-65534BC6E7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A9DB4-6EEA-4CF3-95C0-78073F22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FE68A-EFE7-4821-8245-FF96D4CF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02C6C-CB0E-4F85-A821-7B4343B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54BCD-7A62-4D71-B58A-1B5626A623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710BB-3852-4536-AD8B-BCFF0FDF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C1E82-8AEE-47B1-BD42-B75DBD7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D8F9B-B2F9-4B2B-BD46-D8FBF439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9EE5F-271C-4C2B-8791-BC01B02A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532F9-3E64-4347-A31D-E2F1C9B4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16F-8654-4037-9CF7-3E7F718C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37785-7915-4200-9CD5-3BC7A753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B0EBE-9AEC-4EF8-8E6E-CCFC93E6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42613-4DD9-429B-B350-822CB2CB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CE54F-ED52-452E-BB68-5A550D04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FD628-D547-4771-A752-C88A6EDA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B37E6-D860-410B-B511-C5707C5B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8E796-EB17-416A-8789-2F4C42DE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05EB9-4F65-4886-A577-8BBED1AD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3DDD3-C7D2-4EDB-95A4-990ABFAC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D8057-1D65-4BC5-83D8-B27D5D09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6BD-5DFC-430F-97BF-24B279FA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454E5-FA66-4037-8884-6BD72AB1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A8753-BEE5-4FAF-916B-E8E0A37B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D052D-7B2E-4D05-BABC-D1DBBFF9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CDBD28-2073-480B-BB0C-555D88F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1B69B-16ED-48E5-BB66-3CDDF5C1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C2D98-55BF-460E-9088-BAAE4684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94984-F73A-440C-BF5E-5D8C11CC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1587B-18E7-456B-B8DA-DC114A62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EA536-DE42-4D0E-8983-03D7E7A6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124-F89F-4B09-8ADD-02433633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B40-005A-41F6-9D8F-297B70E9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ED1-17EB-4261-8952-07D9757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3225D-18D9-4715-9035-529D4A06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3F429-BCBB-45B2-ABF5-17872D2D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F45C7-F080-4082-85B6-A7957936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19477-57CC-4089-9599-C825D1DC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057D9-24EC-47FC-A2CC-E8F6A245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60AAD-C23B-4A53-A71F-98D10401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8CF57-82CD-41E5-A8A8-06A25CA0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C61-04FB-4F5D-90FD-000B208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1BF28-D32A-4474-A5D6-5DCB05B8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DD18D-9E43-4B68-BF4E-11E92D3B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0A15C-7460-4B88-93F4-A27AEC99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83D57-43DC-4320-9650-630E7AD6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58471-1DEA-4D3F-8B06-55BBDB00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52205-DADE-46F7-B25C-F716BA29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2B660-3D8F-4EC3-9D06-8FF757E4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4A4B2-C35B-4B60-81BF-F84721EF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564F1-87B6-4956-AD65-6B18C4DC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7D503-7FB0-40F6-828D-0B3815E9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55F-C328-4AC9-8904-75DD320E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2064B-2FDB-416D-B43D-DD1767C2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8EBB7-E49F-4C47-B253-51C5089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90A08-825E-47DC-A057-77E5CAE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5D6598-2B0A-4DDB-9FC6-0EDB531A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E422C-9B83-4145-B313-6D7100AD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0BC99-6FE9-42F7-89E6-15FE9A85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A2213-797A-4285-8FE6-2BE2B8C8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34BA3-D01A-42D9-AC9D-FC8C0EA0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E75DFA-972D-4532-9846-DD81E2A4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7FFB1-2E78-4C5C-AD12-B3D39223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FBA2-139C-440C-BE9C-0BD7F8CFA68A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2703-64D6-4E10-8AAE-8555BB97EB6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C9C2-8F70-4A69-9A8A-161EB7C99A7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F47B-683D-467C-8A47-602F1064882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A522-B17F-4806-9B7D-14BBC5AC961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CE35-CD99-482D-966D-58E39955A0A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C475-BDEE-49BE-886A-008532CDB63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F04F-ADCB-41E2-9BA1-AA6A6E4FE8B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D8F1-30F6-4C8B-B600-A121CFC2CBAA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27BB-EC6A-4260-B639-25E1B124B4C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75F2-6EA2-4954-9CCB-C4B1BA05F737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4E50-D10C-4A0A-B9A6-5211E2DE50A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A71A-A1FB-4A7A-B5E2-D8B814BEFD9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A36F-62F7-481F-8765-BDD2C44543B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A468-314A-411B-88DC-D9B08484AC7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4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4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DEA8-01B6-4305-A100-D0488B930DE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263F-B608-47B0-B6A2-A988F00F697A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43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68B1-EC7C-4FDA-A4EA-33E50CB30B5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810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812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4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2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3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4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5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6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7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8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9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0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1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2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3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4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5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6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7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8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9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0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1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2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3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0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893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895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7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8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9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0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1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2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3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4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5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6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7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8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9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0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1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2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3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4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5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6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3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4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5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6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7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8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9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0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1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2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3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4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5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6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A380-C3BA-48C8-B54D-83C8D85E17A7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5C7A-39D6-4F63-BF5A-29AD0A40B9E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BB60-0946-4133-98ED-FD8DEDA89CCF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27EE-B0D4-4A04-870D-A20F62D7D53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0FBE-E3C7-4132-9BF7-B7F4A542888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63C8-5C16-49C9-92F9-93D6D5AB2EA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72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74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6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7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8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9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0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1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2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3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4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5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6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7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8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9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0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1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2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6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7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8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9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0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1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2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3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4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5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6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7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8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9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0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1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2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3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4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5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255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257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9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0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1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2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3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4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5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6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7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8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9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0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1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2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3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4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5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6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7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8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9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0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1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2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3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4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5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6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7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8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9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0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1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2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3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4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5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6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7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8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24C9-C8AE-44C5-82DD-6E8192CD28B9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23D2-66ED-4789-B3F3-D4FA20ADDEE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2C93-0FA2-4FB7-AAFA-7F466E423E9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5FA5-7473-4EF4-B0B4-C2CA405D9ED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9154-1BA2-492F-A995-C395D20A2C8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FE7E-148C-497C-9D37-5DE030B36B1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Object 4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983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984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85" name="Picture 23" descr="dd"/>
            <p:cNvPicPr/>
            <p:nvPr/>
          </p:nvPicPr>
          <p:blipFill>
            <a:blip r:embed="rId2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87" name="Picture 161" descr="logo small"/>
            <p:cNvPicPr/>
            <p:nvPr/>
          </p:nvPicPr>
          <p:blipFill>
            <a:blip r:embed="rId3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8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989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0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1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2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3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94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995" name="Oval 102" descr=""/>
            <p:cNvPicPr/>
            <p:nvPr/>
          </p:nvPicPr>
          <p:blipFill>
            <a:blip r:embed="rId4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97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998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9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0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001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002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3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4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5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6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7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8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9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10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011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01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015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016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7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8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9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0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1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22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023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024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5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6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027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02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034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035" name="Oval 138" descr=""/>
            <p:cNvPicPr/>
            <p:nvPr/>
          </p:nvPicPr>
          <p:blipFill>
            <a:blip r:embed="rId7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037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038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9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40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58920" y="2349000"/>
            <a:ext cx="55450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Provision of Specialised Security Services  Close Protec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3058920" y="4092120"/>
            <a:ext cx="554508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Presented by: Martin Sabelo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Date: 21 July 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L&amp;I Pre-Qualification Crite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BBBEE Level 1 to 4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A valid BBBEE certificate issued by a SANAS accredited agency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Valid Affidavits in DTI template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Joint Ventures must submit a consolidated BBBEE certificate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2380-1651-4565-920A-73D6559F95DE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0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2AC4-2002-4365-96AB-AC2634115EA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Challenges in BBBEE/Affidavit Submissions Leading into  Non Compl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In term of the BBBEE Codes of Good Practice and the BEE Commission guidelines.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It is illegal for a measured entity to trade with an invalid/inconclusive or incorrect B-BBEE Verification Certificate. The procurement spend as a result of such an invalid document cannot be recognized during B-BBEE measurement, therefore, it is critical to determine the validity of B-BBEE certificates measured entities present in order to access an economic opportunity”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B82A-3D3E-42B3-802C-5BF8ABCB47CD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0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69EB-1AA0-4FA5-98B2-820F461B6539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Challenges BBBEE/Affidavit Submissions Leading into Non Compl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36680" y="981000"/>
            <a:ext cx="8378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Pre-qualification requirements are that tenderers must submit: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Valid BBBEE Certificate or an Affidavit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Joint Ventures must submit a consolidated BBBEE certificate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Problems Identified with submission of invalid BBBEE Certificates/Affidavit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BBBEE Certificate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Some Tenderers still submit BBBEE Certificates which are issued by Auditors or Accounts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In terms of the communication of 31 December 2016, issued by both DTI and IRBA.  No auditor/accountant is allowed to issue BBBEE certificates unless accredited by SANAS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D08E-79F9-4A78-9CC3-0885E796A985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0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8377-B9A4-4201-8B36-F1703B79183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Elements of  B-BBEE Sworn Affidavi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36680" y="981000"/>
            <a:ext cx="8378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Tenderers submitting B-BBEE Sworn Affidavits must ensure that the affidavits meet the following key pointers to ensure their validity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a) Name/s of deponent as they appear in the identity document and the identity number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esignation of the deponent as the director, owner or member must be indicated in order to know that person is duly  authorized to depose of an affidavit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or circle </a:t>
            </a:r>
            <a:r>
              <a:rPr b="1" lang="en-ZA" sz="1200" spc="-1" strike="noStrike">
                <a:solidFill>
                  <a:srgbClr val="003896"/>
                </a:solidFill>
                <a:latin typeface="Arial"/>
              </a:rPr>
              <a:t>Whichever is applicable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c) Name of enterprise as per enterprise registration documents issued by the CIPC, where applicable, and enterprise business address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) Percentage of black ownership, black female ownership and designated group. In the case of specialised enterprises as per Statement 004, the percentage of black beneficiaries must be reflected. (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No blank spaces to be left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e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ndicate total revenue for the year under review and whether it is based on audited financial statements or management account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the applicable option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f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inancial year end as per the enterprise’s registration documents, which was used to determine the total revenue. (Financial year end to be stipulated b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day/month/year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g) B-BBEE Status level. An enterprise can only have one status level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h) Empowering supplier status must be indicated. For QSEs, the deponent must select the basis for the empowering supplier status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i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ate deponent signed and date of Commissioner of Oath must be the same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The sworn Affidavit must be signed in the presence of the Commissioner of Oath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j) Commissioner of Oath cannot be an employee or ex officio of the enterprise because, a person cannot by law, commission a sworn affidavit in which they have an interest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K) Sworn Affidavits attested / signed by a Commissioner of Oaths as a true cop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stamp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will not be accepted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55F6-9FD9-4A32-8526-2CD0FAA10885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0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DC8D-52E0-40FE-BBA3-EA3C545AB40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&amp;L Matr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6008-24CC-451E-80D8-23896059491C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0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529C-243F-4E70-9646-570A1B9DBB7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250920" y="1052640"/>
          <a:ext cx="8713800" cy="5422680"/>
        </p:xfrm>
        <a:graphic>
          <a:graphicData uri="http://schemas.openxmlformats.org/drawingml/2006/table">
            <a:tbl>
              <a:tblPr/>
              <a:tblGrid>
                <a:gridCol w="220680"/>
                <a:gridCol w="141120"/>
                <a:gridCol w="1795680"/>
                <a:gridCol w="1469880"/>
                <a:gridCol w="841320"/>
                <a:gridCol w="847800"/>
                <a:gridCol w="849240"/>
                <a:gridCol w="849240"/>
                <a:gridCol w="849600"/>
                <a:gridCol w="849240"/>
              </a:tblGrid>
              <a:tr h="727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NOTE TO TENDERERS: 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1. The criteria, weightings and targets are set by Eskom.   </a:t>
                      </a:r>
                      <a:br>
                        <a:rPr sz="400"/>
                      </a:b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2.  Industrialisation : Localisation includes proposed investment in plant through the establishment of new or expand existing capacity and capability. Suppliers proposing to increase local content through investment in plant must complete a separate template (commitment plan). 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15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Legend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7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 be completed by Supplier Development and Localisation Representativ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3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gridSpan="4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Automatically calculated or no calculation required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3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 be completed by Supplier Development and Localisation Representativ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59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 be completed by Tenderer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7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26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ABLE 1: SUPPLIER DEVELOPMENT AND LOCALISATION COMPLIANCE MATRIX FOR SUPPLIERS AND CONTRACTORS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Criteria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Weight (%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 Target (%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posed Target (%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 Overall Weighted Scor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3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Local Content to South Africa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5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10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7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8172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Local Content Local to Sit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8172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59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8172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curement from LBS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8172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3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8172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curement from BWO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8172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3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8172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curement from BYO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8172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59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kills Development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5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7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 Scor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07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 rowSpan="2"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 Supplier Development and Localisation Scor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6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ABLE 2: SKILLS DEVELOPMENT COMPLIANCE MATRIX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kill Type (Occupation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OFO Occupational Group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Weight (%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arget Number of Persons to be Trained (Local to South Africa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posed Number of Persons to be Trained </a:t>
                      </a:r>
                      <a:br>
                        <a:rPr sz="400"/>
                      </a:b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(Local to </a:t>
                      </a:r>
                      <a:br>
                        <a:rPr sz="400"/>
                      </a:b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outh Africa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arget Number of Persons to be Trained </a:t>
                      </a:r>
                      <a:br>
                        <a:rPr sz="400"/>
                      </a:b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(Local to Site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posed Number of Persons to be Trained </a:t>
                      </a:r>
                      <a:br>
                        <a:rPr sz="400"/>
                      </a:b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(Local to Site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 Weighted Scor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Grade B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10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4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95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10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4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ADDITIONAL NOTES: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Local Content Local to Site refers to resourced obtained from the municipal district or province in which the project will take place.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kills Development candidates Local to Site shall be sourced from the district municipality or province in which the contracted goods or services will be consumed.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95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kills Development candidates Local to South Africa shall be sourced elsewhere in South Africa either than the province in which the project takes place.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he targets and proposals for skills development Local to South Africa and Local to Site are exclusive.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 be completed by Tenderer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Number of jobs to be </a:t>
                      </a:r>
                      <a:r>
                        <a:rPr b="1" lang="en-US" sz="400" spc="-1" strike="noStrike" u="sng">
                          <a:solidFill>
                            <a:srgbClr val="003896"/>
                          </a:solidFill>
                          <a:uFillTx/>
                          <a:latin typeface="Arial"/>
                        </a:rPr>
                        <a:t>created</a:t>
                      </a: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 as a result of this contract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Number of jobs to be </a:t>
                      </a:r>
                      <a:r>
                        <a:rPr b="1" lang="en-US" sz="400" spc="-1" strike="noStrike" u="sng">
                          <a:solidFill>
                            <a:srgbClr val="003896"/>
                          </a:solidFill>
                          <a:uFillTx/>
                          <a:latin typeface="Arial"/>
                        </a:rPr>
                        <a:t>retained</a:t>
                      </a: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 as a result of this contract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4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0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 be completed by Tenderer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3240" tIns="32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410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upplier Development and Localisation Representativ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Company:_____________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Name: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Designation:__________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ignature: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ignature:____________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0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Date: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Date:______________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0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Slide Number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988F-889A-4B18-81C1-A3D58D8B8C5E}" type="slidenum">
              <a:rPr b="0" lang="en-GB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4" name="Slide Number Placeholder 4"/>
          <p:cNvSpPr/>
          <p:nvPr/>
        </p:nvSpPr>
        <p:spPr>
          <a:xfrm>
            <a:off x="749304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3801-30E3-41F4-A736-0A4E030FAFB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065" name="Picture 3" descr="27640~No-Stupid-Questions-Posters"/>
          <p:cNvPicPr/>
          <p:nvPr/>
        </p:nvPicPr>
        <p:blipFill>
          <a:blip r:embed="rId1"/>
          <a:stretch/>
        </p:blipFill>
        <p:spPr>
          <a:xfrm>
            <a:off x="3786120" y="1700280"/>
            <a:ext cx="34416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Martin Sabelo</cp:lastModifiedBy>
  <cp:lastPrinted>2018-11-13T06:26:01Z</cp:lastPrinted>
  <dcterms:modified xsi:type="dcterms:W3CDTF">2022-07-25T10:11:02Z</dcterms:modified>
  <cp:revision>877</cp:revision>
  <dc:subject/>
  <dc:title>Slide 1</dc:title>
</cp:coreProperties>
</file>